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874D-9813-48E4-AAC9-9F1BF2A2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to go over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slides 18 through 21 with your participants so they know what options they can choose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roject from an exist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ject (slide 1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a new project from scratch (slides 19-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eam IDs with the wizar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specialized team IDs (slide 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helps students represent their understanding as they investigate the nature of a problem that requires thinking about cause and eff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ample investigates how hurricanes affect people, land, and busines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al map takes on the visual elements of concept maps, but places explicit meaning on each element in the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between the factors depict causal relationships, showing an increase or decrease in the intensity of the effect by the thickness and color of the connecting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very important to causal mapping because it means students can interpret the map due to its visual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ome of the factors on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AA4C-35CB-4C0B-802A-C5A65AB87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EA53-157C-4826-A707-F2694E680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5DE7-ACD9-4AB9-811A-EC14F08D1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C3FA-3B28-4368-98EB-5318E59F0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25EA-A0A0-42B6-8129-9E8F1DD55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DA9B-BCD8-440E-8F62-5182A660C4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E56D-9C37-4E22-BB60-370EA71AAD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2BEC-736E-45FE-A553-0938ACD7C0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543A-ED99-4308-9716-05223BEDBC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ECD5-1675-499B-A872-945C5809F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DD5A-FE3A-4C15-B654-417C42DB11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8C8E-B3D3-4D96-A458-8A5CCC4970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BD24-44A3-4599-BDEB-4BDE814E7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F03E-9217-4453-8C78-6D7D9C605C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F2D4-E876-47C6-A1C9-F6B43F4CDD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B672-C83B-4C17-8202-8E58EF5454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336C-6CEA-4465-BBC3-B0A8CD697A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4B06-91FE-4D93-BEEE-CD84E41D5B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4C82-5C8F-4605-A839-49CEB65259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7F0B-A25A-435C-86D8-D0F22E5AC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29FA-2391-4FC4-BC73-818F83A1D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3854-3213-4F78-A551-ECE9BB28D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EE13-C8CA-4FB1-88D4-D04B60A31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BB82-168A-4882-8FCE-269B430C9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112-C663-46D4-8962-583A9085851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712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2003-8B2E-45E8-8F0E-CA48485D0DF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6386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647712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7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Cause and Eff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Understanding Cause and Eff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07–7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cause explain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h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mething happe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ffect describe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happe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cause of X, Y happe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affects 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results in 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0368-8531-4ADF-BE11-73EF71F24B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Cause and Eff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elping Students Understand Causal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lationships Using the 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09–7.1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Traffic Jam ma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ice the sizes and colors of arro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ew relationships between fact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the Comments box and vie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having students create a practice ma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ewing the Benefits of the Seeing Reason Tool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1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benefits for stud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benefits for teac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FFF0-D22E-47C3-9064-314D0F912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ewing the Power of the Seeing Reason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14–7.1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types of thinking, classified by Costa and Kallick’s Habits of Mind, that can be targeted with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stude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st fac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w relation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estigate and revi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ent find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A2DF-E985-40BA-A900-946F915A06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derstanding What Makes a Good Projec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17–7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stand that a good project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 complex, connected to real-world problem solv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s a meaningful research ques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 influenced by factors that can be measured, observed, or verifi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 interdisciplin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3225-D652-4835-871F-3E6C4C299B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Viewing Sample Project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lect two or three project examp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e how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s used in each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e your thoughts and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itional project examples in Appendix D.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a project that uses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lp to develop students’ think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Thinking About Your Uni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1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ainstorm ideas for effective uses of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your un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DB70-C02E-4F2E-9401-4A680FAB00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Seeing Reas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Needs of Your Uni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7.20–7.2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“Habits of Learning Taxonomy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tandards you identified as ones that could possibly benefit from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f you do not believ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ould be a good fit for your unit, you will have the opportunity to try out an idea for a different unit during this module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4450-CA07-48DB-894F-F67AC1F687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ewing Sample Project Descriptions an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search Question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1–7.2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examples for how to write your ow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-Light"/>
              </a:rPr>
              <a:t>For more examples, see ideas starting on Appendix D.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380880" y="3301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4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Seeing Reas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723C-29C3-4F79-8398-442110B79B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Idea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374760" y="1676520"/>
            <a:ext cx="85406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ideas for a projec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feedback on ways to target higher-order think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1D04-E2FF-410B-82C4-856889ED35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reating a Seeing Reason project from a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Existing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6–7.2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project wizard to copy an existing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Curriculum-Framing Questions, project priorities, and the Project Reflection Checklist, and then edit the project onl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 the details into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steps 2 through 4 to create a new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(see next three slid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359B-7D12-404A-9279-48F05EB5E6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Creating Your Own Project Description an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Research Questio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7.27–7.2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Unit Plan an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prior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Reflectio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the Project Description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d Research Question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your map or type them directly into your Unit Plan Templ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se is not appropriate for your unit, 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nking Tools, Seeing Reason Tool Resour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F992-B58F-4102-84A9-B144973144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914400"/>
          <a:ext cx="8237520" cy="4621320"/>
        </p:xfrm>
        <a:graphic>
          <a:graphicData uri="http://schemas.openxmlformats.org/drawingml/2006/table">
            <a:tbl>
              <a:tblPr/>
              <a:tblGrid>
                <a:gridCol w="1600200"/>
                <a:gridCol w="6637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2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ing Standards-Based Proj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3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ing Curriculum-Framing Questions to Suppor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4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5: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Visual Ranking Tool to Target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3920" indent="-2224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y out a project idea using the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3920" indent="-2224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, share, and reflect on a practice ran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3920" indent="-2224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ise your Unit Pl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3920" indent="-2224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cuss your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experi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469800" y="5562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703C-18D4-4B4D-A1F8-EDE6FEAC8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Planning Your Use of Seeing 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Unit Plan Templ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to the Seeing Reason s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Descrip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 Ques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your fi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E01C-7D49-4941-BF9F-A19E97DDC2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Creating a New Seeing Reason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 in to your Teacher Worksp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new Seeing Reason project and complete the followin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Descrip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 Ques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A245-B7B4-4B29-A5E9-EC79D091C1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Teams IDs with the Project Wizar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3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project wizard to create team I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t least team for the practice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6: Creating Specialized Student Team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3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Team IDs individu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ip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down your team IDs and passwor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8BDD-B008-4EEC-8E99-ACD605A1FE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3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5760" y="1371600"/>
          <a:ext cx="8237520" cy="314496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7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7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eing Reason Tool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 useful to investigate multiple influences (factors) that impact other outcomes in a syste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actors and relationships in a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eing Reaso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map should 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asur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serv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rif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6023-9290-4CD2-8CC7-54632BB708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8</a:t>
            </a:r>
            <a:br>
              <a:rPr sz="26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practic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usal ma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and practice effective questioning techniqu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and receive feedback on project idea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ma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experience us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6793-4059-4FBF-B5C9-624B0420BC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77B7-FE45-4B69-A05E-8B997139F6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7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eeing Reason Tool to Target Thinking Skill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a unit that integrates the use of the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present causal relationships visu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of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and discuss ideas for incorporat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lop and share a project idea that use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onl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E729-3558-4A06-8F03-227FE9AA63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990720"/>
          <a:ext cx="8237520" cy="3216240"/>
        </p:xfrm>
        <a:graphic>
          <a:graphicData uri="http://schemas.openxmlformats.org/drawingml/2006/table">
            <a:tbl>
              <a:tblPr/>
              <a:tblGrid>
                <a:gridCol w="1830240"/>
                <a:gridCol w="6407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4EBF-8186-4BBF-913D-5DFF8DC6E9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7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eeing Reason Tool to Targe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90760" y="1828440"/>
            <a:ext cx="47624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view and discuss a unit in depth that integrates the use of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cause and effect and how to represent causal relationships visually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 Tool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iew and discuss ideas for incorporating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nto unit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roject onlin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1600" y="1295280"/>
            <a:ext cx="3836880" cy="47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E896-AE5B-4122-9E38-0843BA255D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eeing Reason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king a Look at Your Seeing Reason Map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01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the Teacher Workspace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your most recent ma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maps in your Portfolio to see how your team’s thoughts have progress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id your maps chang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your maps show progression in think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 this cycle of revisiting the maps increase deeper understand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you see this tool being beneficial in the classroo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F707-CFBC-4F30-9B7A-66C6CB74B1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eeing Reason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xamining a Unit that Uses Seeing Reas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02–7.0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e the Ecology Explorers unit in Appendix F.0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ok at how the unit deals with a complex system or cause-and-effect relation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maps in this unit at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ject Exampl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nit Plan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cology Explor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93E8-99C1-4AF2-8DE2-2E1D4F6688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Cause and Eff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Understanding Causal Map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0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ps help students to visually represent specific measurable or verifiable factors that influence or impact a problem or syste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causal map takes on the visual elements of a concept map, but places explicit meaning on each element of the ma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529C-F494-4378-8EA7-B5F178F92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116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usal maps have one specific purpose—to visually depict measurable or verifiable factors that </a:t>
            </a:r>
            <a:r>
              <a:rPr b="0" lang="en-US" sz="2000" spc="-1" strike="noStrike">
                <a:solidFill>
                  <a:srgbClr val="a6cae1"/>
                </a:solidFill>
                <a:latin typeface="Verdana"/>
              </a:rPr>
              <a:t>influenc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0" lang="en-US" sz="2000" spc="-1" strike="noStrike">
                <a:solidFill>
                  <a:srgbClr val="a6cae1"/>
                </a:solidFill>
                <a:latin typeface="Verdana"/>
              </a:rPr>
              <a:t> impac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 problem or syste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hurricanes affect people, land,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gging Deeper into Cause and Effect</a:t>
            </a:r>
            <a:br>
              <a:rPr sz="22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Understanding Causal Map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inued) – Module 7.06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952880" cy="35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8956-CF3D-4BF3-8FED-14EA696208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lmclampi</cp:lastModifiedBy>
  <dcterms:modified xsi:type="dcterms:W3CDTF">2009-08-09T06:20:08Z</dcterms:modified>
  <cp:revision>901</cp:revision>
  <dc:subject/>
  <dc:title>Slide 1</dc:title>
</cp:coreProperties>
</file>